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7.wmf" ContentType="image/x-wmf"/>
  <Override PartName="/ppt/media/image6.gif" ContentType="image/gif"/>
  <Override PartName="/ppt/media/image12.jpeg" ContentType="image/jpeg"/>
  <Override PartName="/ppt/media/image10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B2D-7E64-4EA2-B2B7-E5587715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192-9FA7-4DCE-8F0E-452BE5EE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33E-933E-4711-8F62-8255DF70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73D-CD8A-4ABA-BCD6-EE2E5F01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B3D-09B4-4DB6-9EFD-F6FCA99D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AC04-E5DA-4A01-9A75-C47F2CFF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C4A1-635F-4A59-9DA3-70E107B8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8874-7B1E-4A5C-99A5-3EC1B0BB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4699-87C5-4307-BA13-D2F422DB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635C-6F4D-4FA4-BB10-80C62D89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8C6F-B296-47F1-BB00-6AF129F2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380-F429-4719-B555-352CE5F2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A588-0FE6-4CC7-8BF6-B0156264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E24F-70BD-4709-9BBA-369D3B8C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C0D8-6826-432D-9203-AF4BE238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0C5A-BFCF-456E-8C3A-C98AF79C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676D-C36E-49C4-8BDD-5E8700A6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3F6-B90B-49DB-A370-7B7929E6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E3A-A775-46E7-9C35-7CC5D2DB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CC4-803C-4DCB-92B0-691D616F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2F6-A527-4A29-B4F5-6CE164AC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7DF-75D7-4B76-96B1-EFC1063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FC8-4F8C-4AC1-B5B8-A0C90A2C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80A-0FEC-46DF-849E-E543A0D3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F942-CF95-4C0C-A3D5-D9067BB42F9E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C338-2236-4764-88C0-6D30947DAEC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hyperlink" Target="http://evolution.berkeley.edu/evolibrary/article/arthropodstory" TargetMode="External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rthropo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abundant organism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rthropo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e group of organisms known as Arthropods includes more than one million identified specie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88" name="Picture 4" descr="MMj02835720000[1]"/>
          <p:cNvPicPr/>
          <p:nvPr/>
        </p:nvPicPr>
        <p:blipFill>
          <a:blip r:embed="rId1"/>
          <a:stretch/>
        </p:blipFill>
        <p:spPr>
          <a:xfrm>
            <a:off x="3505320" y="3429000"/>
            <a:ext cx="2819160" cy="19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cockroach"/>
          <p:cNvPicPr/>
          <p:nvPr/>
        </p:nvPicPr>
        <p:blipFill>
          <a:blip r:embed="rId1"/>
          <a:stretch/>
        </p:blipFill>
        <p:spPr>
          <a:xfrm>
            <a:off x="3456000" y="4383000"/>
            <a:ext cx="2189160" cy="2206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rthropod Characteristic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r an organism to belong to the arthropod group, it needs certain traits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78f48"/>
                </a:solidFill>
                <a:latin typeface="Arial"/>
              </a:rPr>
              <a:t>All arthropods must have: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78f4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8f48"/>
                </a:solidFill>
                <a:latin typeface="Arial"/>
              </a:rPr>
              <a:t>3 </a:t>
            </a:r>
            <a:r>
              <a:rPr b="1" lang="en-US" sz="3200" spc="-1" strike="noStrike" u="sng">
                <a:solidFill>
                  <a:srgbClr val="078f48"/>
                </a:solidFill>
                <a:uFillTx/>
                <a:latin typeface="Arial"/>
              </a:rPr>
              <a:t>or more</a:t>
            </a:r>
            <a:r>
              <a:rPr b="1" lang="en-US" sz="3200" spc="-1" strike="noStrike">
                <a:solidFill>
                  <a:srgbClr val="078f48"/>
                </a:solidFill>
                <a:latin typeface="Arial"/>
              </a:rPr>
              <a:t> pairs of jointed legs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 flipH="1" flipV="1">
            <a:off x="5562720" y="510516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5486400" y="55627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4495320" y="6400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8598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402600" y="579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259600" y="6172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Arthropod Characteristics continued…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2. a hard outside coating called an exoskeleton that covers the whole body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0" name="Picture 5" descr="MCAN00565_0000[1]"/>
          <p:cNvPicPr/>
          <p:nvPr/>
        </p:nvPicPr>
        <p:blipFill>
          <a:blip r:embed="rId1"/>
          <a:stretch/>
        </p:blipFill>
        <p:spPr>
          <a:xfrm rot="19318800">
            <a:off x="1828800" y="3389040"/>
            <a:ext cx="3678120" cy="346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ammer"/>
          <p:cNvPicPr/>
          <p:nvPr/>
        </p:nvPicPr>
        <p:blipFill>
          <a:blip r:embed="rId2"/>
          <a:stretch/>
        </p:blipFill>
        <p:spPr>
          <a:xfrm>
            <a:off x="2133720" y="304812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Arthropod Characteristics continued…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3. a body made up of two or more distinct parts (segments)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04" name="Picture 6" descr="MCj03468910000[1]"/>
          <p:cNvPicPr/>
          <p:nvPr/>
        </p:nvPicPr>
        <p:blipFill>
          <a:blip r:embed="rId1"/>
          <a:stretch/>
        </p:blipFill>
        <p:spPr>
          <a:xfrm>
            <a:off x="3276720" y="4419720"/>
            <a:ext cx="3733560" cy="2098440"/>
          </a:xfrm>
          <a:prstGeom prst="rect">
            <a:avLst/>
          </a:prstGeom>
          <a:ln w="0">
            <a:noFill/>
          </a:ln>
        </p:spPr>
      </p:pic>
      <p:sp>
        <p:nvSpPr>
          <p:cNvPr id="105" name="Line 7"/>
          <p:cNvSpPr/>
          <p:nvPr/>
        </p:nvSpPr>
        <p:spPr>
          <a:xfrm>
            <a:off x="3657600" y="3657600"/>
            <a:ext cx="15228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4647960" y="3657600"/>
            <a:ext cx="75960" cy="99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3505320" y="297180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4648320" y="297180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5715000" y="289548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rthropod definition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78f48"/>
                </a:solidFill>
                <a:uFillTx/>
                <a:latin typeface="Arial"/>
              </a:rPr>
              <a:t>Arthropod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 – “jointed foot.”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78f48"/>
                </a:solidFill>
                <a:uFillTx/>
                <a:latin typeface="Arial"/>
              </a:rPr>
              <a:t>Exoskeleton</a:t>
            </a: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 – the hard outside covering of an animal that has no skeleton inside its body.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13" name="Picture 4" descr="MPj03140770000[1]"/>
          <p:cNvPicPr/>
          <p:nvPr/>
        </p:nvPicPr>
        <p:blipFill>
          <a:blip r:embed="rId1"/>
          <a:stretch/>
        </p:blipFill>
        <p:spPr>
          <a:xfrm>
            <a:off x="5867280" y="4191120"/>
            <a:ext cx="236232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MMj02363150000[1]"/>
          <p:cNvPicPr/>
          <p:nvPr/>
        </p:nvPicPr>
        <p:blipFill>
          <a:blip r:embed="rId2"/>
          <a:stretch/>
        </p:blipFill>
        <p:spPr>
          <a:xfrm>
            <a:off x="1143000" y="-533520"/>
            <a:ext cx="64764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AN00325_0000[1]"/>
          <p:cNvPicPr/>
          <p:nvPr/>
        </p:nvPicPr>
        <p:blipFill>
          <a:blip r:embed="rId3"/>
          <a:stretch/>
        </p:blipFill>
        <p:spPr>
          <a:xfrm>
            <a:off x="914400" y="4876920"/>
            <a:ext cx="2019240" cy="1671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Cj03469250000[1]"/>
          <p:cNvPicPr/>
          <p:nvPr/>
        </p:nvPicPr>
        <p:blipFill>
          <a:blip r:embed="rId4"/>
          <a:stretch/>
        </p:blipFill>
        <p:spPr>
          <a:xfrm rot="5848800">
            <a:off x="7402320" y="58680"/>
            <a:ext cx="1800360" cy="168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wolf_spider"/>
          <p:cNvPicPr/>
          <p:nvPr/>
        </p:nvPicPr>
        <p:blipFill>
          <a:blip r:embed="rId1"/>
          <a:stretch/>
        </p:blipFill>
        <p:spPr>
          <a:xfrm>
            <a:off x="3657600" y="4191120"/>
            <a:ext cx="1295280" cy="1230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entipede"/>
          <p:cNvPicPr/>
          <p:nvPr/>
        </p:nvPicPr>
        <p:blipFill>
          <a:blip r:embed="rId2"/>
          <a:stretch/>
        </p:blipFill>
        <p:spPr>
          <a:xfrm>
            <a:off x="4343400" y="2819520"/>
            <a:ext cx="1479600" cy="1110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Arthropods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68580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ome members of the arthropods include: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Lobster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-------------------Shrimp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Centipede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-------------------Millipede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Spider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Arial"/>
              </a:rPr>
              <a:t>-------------------Insects</a:t>
            </a:r>
            <a:endParaRPr b="0" lang="en-US" sz="36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121" name="Picture 4" descr="lobster"/>
          <p:cNvPicPr/>
          <p:nvPr/>
        </p:nvPicPr>
        <p:blipFill>
          <a:blip r:embed="rId3"/>
          <a:stretch/>
        </p:blipFill>
        <p:spPr>
          <a:xfrm>
            <a:off x="3809880" y="1295280"/>
            <a:ext cx="1981440" cy="14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hrimp"/>
          <p:cNvPicPr/>
          <p:nvPr/>
        </p:nvPicPr>
        <p:blipFill>
          <a:blip r:embed="rId4"/>
          <a:stretch/>
        </p:blipFill>
        <p:spPr>
          <a:xfrm>
            <a:off x="6400800" y="2044800"/>
            <a:ext cx="1523880" cy="1257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illipede"/>
          <p:cNvPicPr/>
          <p:nvPr/>
        </p:nvPicPr>
        <p:blipFill>
          <a:blip r:embed="rId5"/>
          <a:stretch/>
        </p:blipFill>
        <p:spPr>
          <a:xfrm>
            <a:off x="7010280" y="3505320"/>
            <a:ext cx="1447920" cy="1136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ockroach"/>
          <p:cNvPicPr/>
          <p:nvPr/>
        </p:nvPicPr>
        <p:blipFill>
          <a:blip r:embed="rId6"/>
          <a:stretch/>
        </p:blipFill>
        <p:spPr>
          <a:xfrm>
            <a:off x="6248520" y="4724280"/>
            <a:ext cx="133668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600" y="5894280"/>
            <a:ext cx="9248760" cy="78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7:05:45Z</dcterms:created>
  <dc:creator>Teacher</dc:creator>
  <dc:description/>
  <cp:keywords/>
  <dc:language>en-US</dc:language>
  <cp:lastModifiedBy>Moe</cp:lastModifiedBy>
  <dcterms:modified xsi:type="dcterms:W3CDTF">2009-10-05T11:22:47Z</dcterms:modified>
  <cp:revision>17</cp:revision>
  <dc:subject/>
  <dc:title>Arthropo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